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A145-0A0F-47CD-8C16-036F81871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2A3A-72E3-40BE-9FCD-31DA2C6B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716C-BBF5-4D30-A644-187709ED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2D0C-79C4-4EC1-851A-B66034B49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7C5E-4F99-48DA-8E74-55946FCD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B0F4-DFA1-43D4-8E9B-CFB27DDA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1878-EBEF-4958-B68F-B97C2CF3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8661-4B0D-4F78-B7ED-131EC5F9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D01D-66BB-4952-B68E-DB9A86B5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2D83-99DA-4FF9-AAA6-B5CECCB5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2660-FC76-4AA3-8BBD-DC53EEE5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40AF-3007-4A36-8A67-722D7BB4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8BF6-B9B5-46B8-98A7-0E5DB71CC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pport de comp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aison des différentes méthodes de compression sur plusieurs fich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609480"/>
          <a:ext cx="9144000" cy="552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914400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819520" y="1676520"/>
          <a:ext cx="2514600" cy="558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1676520"/>
                    <a:ext cx="25146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5257800" y="167652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685800"/>
          <a:ext cx="9144000" cy="552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914400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501480"/>
          <a:ext cx="9144000" cy="585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1480"/>
                    <a:ext cx="9144000" cy="585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749520" y="6172200"/>
            <a:ext cx="51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eu : taille initiale. Rouge : taille fin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16002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 760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09480" y="103320"/>
          <a:ext cx="8077320" cy="675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3320"/>
                    <a:ext cx="8077320" cy="67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762120"/>
          <a:ext cx="9144000" cy="522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2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4419720" y="13716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9 878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46880" y="5985000"/>
            <a:ext cx="65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eurs 24 bits , 512*384 pixels , résolution 96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762120"/>
          <a:ext cx="9144000" cy="522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2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80880" y="0"/>
          <a:ext cx="8153640" cy="681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0"/>
                    <a:ext cx="8153640" cy="68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987120" y="6248520"/>
            <a:ext cx="60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6 couleurs, 512*384 pixels , résolution 96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19051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 686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62120" y="0"/>
          <a:ext cx="7772400" cy="687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777240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33520" y="0"/>
          <a:ext cx="8153280" cy="681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0"/>
                    <a:ext cx="8153280" cy="68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733920" y="18288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4 454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3040" y="617220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2kbps, 16bits, 22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762120" y="0"/>
          <a:ext cx="7696080" cy="681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7696080" cy="68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16:17:19Z</dcterms:created>
  <dc:creator>Monchamps</dc:creator>
  <dc:description/>
  <dc:language>en-US</dc:language>
  <cp:lastModifiedBy>Monchamps</cp:lastModifiedBy>
  <dcterms:modified xsi:type="dcterms:W3CDTF">2004-05-16T20:01:31Z</dcterms:modified>
  <cp:revision>21</cp:revision>
  <dc:subject/>
  <dc:title>Rapport de compression</dc:title>
</cp:coreProperties>
</file>